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8DB4-58B1-45B5-8C73-3ADA4A8F2F0F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BD70-0B83-47CA-B32B-DB7B5BE3551E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CEA7-620C-4AEA-9E01-8C51EA334D3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80240" y="299880"/>
            <a:ext cx="546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Responsible Data Us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Citation and Credit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ttp//tw.rpi.edu/media/latest/ParsonsDataCitation.pdf" TargetMode="External"/><Relationship Id="rId2" Type="http://schemas.openxmlformats.org/officeDocument/2006/relationships/hyperlink" Target="http://dx.doi.org/10.1029/2010EO340001" TargetMode="External"/><Relationship Id="rId3" Type="http://schemas.openxmlformats.org/officeDocument/2006/relationships/hyperlink" Target="http://wiki.esipfed.org/index.php/Interagency_Data_Stewardship/Citations/provider_guidelines" TargetMode="Externa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Responsible Data Use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Citation and Credit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atthew Mayernik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Center for Atmospheric Research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rowing Visibility of Data Citation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2009 AGU position statement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  “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scientific community should recognize the professional value of such [data] activities by endorsing the concept of publication of data, to be credited and cited like the products of any other scientific activity, and encouraging peer-review of such publications.”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2009 AMS Ad Hoc Committee on Data Stewardship Prospectus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 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MS should “[d]evelop a plan for citing data referenced in publications and preserving data links for the long term.”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Citation Initiatives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20932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Many research centers are beginning to assign Digital Object Identifiers (DOIs) to data.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DOIs provide unique locators for data available onlin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DOIs provide unique identifiers that can enable data use to be tracked more efficiently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DataCite—an international consortium of libraries and research organizations is: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orking to promote DOIs and citations for 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orking with Thompson-Reuters to develop data citation indexes for the Web of Science.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urpose of Data Citations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20932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nnect publications to their underlying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Give scientists and data centers credit for producing and curating data se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nderstand how data are us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rack the products that derive from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Citation Recommendations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20932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ESIP Cluster recommendation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06060"/>
                </a:solidFill>
                <a:latin typeface="Helvetica Neue"/>
              </a:rPr>
              <a:t>Required citation elements: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 Author. Release date. Title. Version. Archive/Distributor. Locator/Identifier. Access date and time.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06060"/>
                </a:solidFill>
                <a:latin typeface="Helvetica Neue"/>
              </a:rPr>
              <a:t>Optional citation elements: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 Subset Used; Editor, Compiler, or other important role; Distributor, Associate Archive, or other Institutional Role; Data Within a Larger Work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xample citation: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Zwally, H.J., R. Schutz, C. Bentley, J. Bufton, T. Herring, J. Minster, J. Spinhirne, and R. Thomas. 2003. 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GLAS/ICESat L1A Global Altimetry Data V018, 15 October to 18 November 2003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 National Snow and Ice Data Center. Data set accessed 2011-07-21 at doi:10.3334/NSIDC/gla01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Data Citation Recommendations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20932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ternational Polar Year polic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citations “should include the following elements as appropriate”: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Author or investigator, Publication date, Title, Dates used, Editor or compiler, Publication place, Publisher, Distributor or associate publisher, Distribution medium or location, Access date, Data within a larger work.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DataCite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Recommended minimum citation elements: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Creator. PublicationYear. Title. [Version]. Publisher. [ResourceType]. Identifier.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onclusion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71320" y="220932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ork with your data center to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Develop appropriate citations for your 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Assign DOIs to 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ork with collaborators to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Decide when data citations are appropriat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Provide each other with citation information for 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ork within your research institutions to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Make citing data a regular practice in your labs/groups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Promote the value of data citations in tenure and promotion committees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arsons, M.A. 2011. “Data Citation.” Presentation at 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GeoData 2011,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roomfield, CO, 3 March 2011.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http://tw.rpi.edu/media/latest/ParsonsDataCitation.pdf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arsons, M.A., R. Duerr, and J.-B. Minster. 2010. “Data Citation and Peer Review.” 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Eos Transactions, AGU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91(34): 297-298.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dx.doi.org/10.1029/2010EO340001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ederation of Earth Science Information Partners (ESIP). 2011. “Interagency Data Stewardship/Citations/provider guidelines.”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iki.esipfed.org/index.php/Interagency_Data_Stewardship/Citations/provider_guidelin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orking with your archive organiz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dvertising your data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viding access to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ponsor (e.g., Agency) or institution requiremen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Matt</cp:lastModifiedBy>
  <dcterms:modified xsi:type="dcterms:W3CDTF">2011-10-18T00:55:03Z</dcterms:modified>
  <cp:revision>47</cp:revision>
  <dc:subject/>
  <dc:title>ESIP Federation 101</dc:title>
</cp:coreProperties>
</file>